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4F4-25DA-407C-863F-8A1E3E17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99D-1687-422B-B43E-83493C0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E5B9F-A892-4A9A-8603-6BD4048A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F615A-A862-42E7-9E9F-2A4523F1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5FB92-0EF5-46FA-80A9-3271AD23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A5A74-52E8-4FB1-81CC-95560F02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EF347-249F-4315-98CE-7F14E4A3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C1D58-BAE3-4A1F-A873-401AA629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9AD63-F6F6-48F3-B5BE-1DCCDC42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17AE-EA2D-4B15-9AEA-ECFF1302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705E0-BBED-4B17-AFDD-4D2B6CD8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26360-8A1B-4EB2-AB6B-B38CA91A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23D-92B3-4167-B77A-AED9D740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F3890-C1AC-41CD-9F8D-E09AD439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65D1B-BD45-4533-BA03-B6BDE07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B3FE3-E1CF-482F-9DA7-EF5D382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BF1F4-F4A4-4861-AE26-896D7018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E9A33-F083-4C92-9ADB-10738AD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0A6AA-A059-4C48-96C2-0D03B26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DD169-92D5-4803-A256-B44C496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8CB5F-A899-430F-B41B-266D29F3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A179E-0A51-40D6-BF49-99F10C3E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E3FCD-BEE4-45ED-A741-2A86649E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651-FADB-4585-AF17-96C8EE75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82007-5604-43E0-B4A0-E8707C79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46AE5-2458-4327-8EDA-7E1B427C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626E-FC30-421F-AD8C-1F92C959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14D0D-6843-4F42-9835-7263DBB1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AA24-3E2B-48DA-B353-B68BE4C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9696A-0987-497C-B94C-9911AABF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529A6-43F9-483F-A58B-4BA3576D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860F6-9482-41CB-9C2B-358013C2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FC5E1-C660-4315-8E14-BB13CEC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07F48-59F1-4B98-A9B3-077B6766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A658-8215-4783-8792-3E89FBB5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3B15D-AB65-4623-8120-3EF94586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85431-E66E-44CA-984A-BAF38B28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0587F-1B44-4855-8A19-FBBD007F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85BE5-009E-4ED5-B66D-C2C58788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DD39A-227E-4B5E-AFC9-A1E24F5F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0F2A3-18B6-4885-A27F-B864D71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88501-51BD-4A0A-97AF-8F1E648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6AB34-F7A7-452A-88B6-DA4FACB9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C62D8-6712-4370-BB9E-7980BEF2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641BA-B3BB-46C2-81CD-8E47F5F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EF5C-B08E-4BE6-B9D4-4D061ACD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7C769-BC7F-4B3D-BE5A-1968887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B02AB-3DB2-46D2-AF4C-6BDAF28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46389-ADAE-413C-8890-197F7156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9F020-63D6-4C91-A052-78952F07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30AFD-A49A-4028-99C3-7D5D27CC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D537-0FF4-427A-9F2E-9F7771C6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1D67-6276-4DF1-B24B-4B3E0EF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3E5F-7273-42AD-8315-2BBE4800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D9C8-4006-4099-AD00-BBE208CF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DAE7-16A3-4303-AF99-A381F19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EC0-C887-4FE1-A716-7B65AE32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060A-017D-4862-BAF5-DBC124BA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703-AD7E-4566-94C6-4CD6915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B59D-305A-4A26-A77F-C531BCB9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9C8E-0C82-425B-A5C9-7D58ECDB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02FF-E438-498E-878D-BC104E4D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BCF5-902D-4D90-B736-01FA8A38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F073-0311-4821-B6E4-63F57D4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BDEB-4F41-461A-8289-378212B0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4833-0436-402F-A8BB-4BCB52C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D6F9-54F0-435A-B822-65016ED2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FE6-82D1-482E-8ED0-501F8A5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ADD7-A815-4266-9DB3-416B24A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6A64-8995-40D3-ADEE-D02C7F2F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37E4-1155-4DE6-8B45-BAFB4CB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3ACD-43B5-4588-9134-7E93364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A567-A57A-485D-A6EC-5ABE59C0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E01A-825B-4186-AA5E-7981646F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7187-48D7-4AA1-B278-5D637D5B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D3E8-58F7-4FE9-8896-DA7396CE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0A35-8C3C-4C3E-8ECD-EBA16158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5C4D-AE91-4AAE-972B-191C31B8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363-7D56-47C7-9D9C-C57C0B4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EC91-88D7-4D91-B22A-B990F864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3C2B-F4B4-420D-B1AA-3F301B4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FF23-B7F3-4336-A475-6B67F2AD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50DF-0AAF-4F27-874A-A419D59D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2079-8400-403E-AD50-0DA5B0C8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2BB1-B012-4F26-86BC-D0871CAF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E117-C20C-4DB4-8185-71B3842E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DFA5E-C2B6-4D96-9F09-834F606B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2FFC-0052-4858-B29D-E5F1D4E6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769ED-A5D3-491F-B513-F0C64BFC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B33-67D7-4DDA-A622-FD163CC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28503-512F-4848-987F-FDFB498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FFF5-7113-48B1-906E-D3794F7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4366E-13DB-455E-A2F6-4AE32D89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724B2-08F0-48D9-82AD-C3599C7C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84C5-149B-45D1-A899-6BCDED42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DA79-20E0-4BCD-8DBE-384C456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63F05-3004-4C8D-A29A-3784EB7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0ED8-0BE4-4729-9089-DE40E33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D6B2E-A821-4905-BD10-82EDCFC0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F854-12F8-43B0-9871-2A7A93FC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8AA-B2B0-4282-A571-D880B168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5D0F7-3636-4E40-A47D-758EFE3F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5FB6-A5B7-4098-829A-19734A9C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BC1A-4A3E-446D-8E68-0EAD75ED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6D3F7-4CE6-4FCC-9CA4-7055C037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1226-7C56-459F-BEE6-27DBE84F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55882-B8DB-4A4B-BA23-384A2F0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A3645-F8C9-4373-A01C-85DAAF55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8742-E16F-40A8-B94C-2C5CD57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0E948-C483-460F-8112-93B62C6D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9F792-1BAD-4F22-B212-9949A04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9DA-1E80-428F-A5EA-A297E1B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AAB0-FBE5-4A62-B926-096AADC4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C1C4-F5BC-4F31-B353-9E632D75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24FF-4A0E-411C-A42E-C2037D0B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6C09E-8CB5-4631-A23C-C06254FA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09B13-6FD7-4969-9817-82DB0203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CCDB3-C7F8-4AC9-9CCB-28153461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9A28-FFE9-4947-B6B4-627CF1CF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BC8F0-E67C-409A-B245-2FCDA05B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7007C-81DC-4C7E-82E6-BBA7B315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633D9-E24F-426B-B0D0-80C577D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999-4A0F-418E-A1CF-B27655AC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E1CB4-6752-4258-AA5E-78B531CD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DFE52-CB78-43B7-914E-B7E692C2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18063-D7CC-4A60-8DF9-DE68C87B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2760-4CA7-4FA4-85DB-FD969F39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78D79-3800-4F39-A55E-8C16E9FB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F9BE3-57DF-486A-A6C6-E6AEAE08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1E889-5C39-4CE9-976C-D8470ECF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BD333-96D9-49A6-9CA2-68BB56A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73D2-8F6A-4E9F-AFF3-742B3EEC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3329A-B1A2-49A0-A866-5A943E5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768-FE5F-4217-B22D-5E717D5D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57A61-6D28-4525-AA6E-F7EF22E8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ED27-A735-40F9-982E-663A9CD2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D3A60-5E26-45B3-BB52-BF3DF01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1BB52-E938-490A-A0AA-327C734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C9EF7-A682-4712-B0C0-2F28D65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32CB6-4EE4-4B9C-B69E-F63F8EDE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FA16-4D3E-41CC-A7CF-3EB3F66A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EF9AC-CF26-478D-BE9C-5ADE4CEE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A5B8E-1A5B-4805-B98B-6BD8DC9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CAAAC-E815-4360-A560-CBDB89CA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E1D3-495F-4CC1-8BC4-1E2DAD6DA7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741E-81B3-42AA-9432-98E786340B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B2CB-991A-47B7-AED6-8E9C42C3AC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5359-C960-4E7F-A3D6-4465721337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95E1-FD45-4B8C-9D70-F715826773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17DE-2B04-49E2-941B-B68A4FAE13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6A9C-0A40-4A48-9587-75EFAE5827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13AC-3F38-410A-A010-A1A9F32681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CBA-ECBE-4A82-AC1D-3F5E76BE9C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C09C-8505-4B4C-A98A-07B3FA905D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8017-AA65-48E0-918F-43A191D5B1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D02-280A-4B39-BC99-A8C7024E3C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2 Čas žatvy už sa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 žatvy už sa bl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do práce sa d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yjde snopy zbier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ozrie úrod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Páne, daj nám schopn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ilu prac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ieme blížnych s 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k tebe pozý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minulosti tvoji š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zách Slovo si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dával si im nád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budú úspech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ám daj pevnú vier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apáľ oheň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ykročíme k die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ajvyšší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e šíre sveta lány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lasy tvoje s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už pošli, Pane, ženco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erne slúžiť chc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obre vykonajú tú prác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im d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ako deti svo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ch domov zavolá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51:58Z</dcterms:modified>
  <cp:revision>36</cp:revision>
  <dc:subject/>
  <dc:title>Je veľký náš Pán, on slávy je Kráľ Nech do všetkých strán  spev vrúcnych znie chvál.</dc:title>
</cp:coreProperties>
</file>